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8743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1200" y="3978360"/>
            <a:ext cx="8743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1760" y="182880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81200" y="39783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1760" y="39783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7520" y="18288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93840" y="182880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81200" y="39783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7520" y="39783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93840" y="39783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81200" y="182880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4266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1760" y="1828800"/>
            <a:ext cx="4266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8743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1760" y="1828800"/>
            <a:ext cx="4266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81200" y="39783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4266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1760" y="182880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1760" y="39783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1760" y="182880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1200" y="3978360"/>
            <a:ext cx="8743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285560" cy="685656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81200" y="182880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33560" y="5649840"/>
            <a:ext cx="8262720" cy="1055880"/>
            <a:chOff x="1033560" y="5649840"/>
            <a:chExt cx="8262720" cy="1055880"/>
          </a:xfrm>
        </p:grpSpPr>
        <p:sp>
          <p:nvSpPr>
            <p:cNvPr id="4" name=""/>
            <p:cNvSpPr/>
            <p:nvPr/>
          </p:nvSpPr>
          <p:spPr>
            <a:xfrm>
              <a:off x="7737480" y="5649840"/>
              <a:ext cx="1558800" cy="1055880"/>
            </a:xfrm>
            <a:custGeom>
              <a:avLst/>
              <a:gdLst/>
              <a:ahLst/>
              <a:rect l="l" t="t" r="r" b="b"/>
              <a:pathLst>
                <a:path w="982" h="665">
                  <a:moveTo>
                    <a:pt x="0" y="332"/>
                  </a:moveTo>
                  <a:lnTo>
                    <a:pt x="187" y="332"/>
                  </a:lnTo>
                  <a:lnTo>
                    <a:pt x="244" y="140"/>
                  </a:lnTo>
                  <a:lnTo>
                    <a:pt x="324" y="461"/>
                  </a:lnTo>
                  <a:lnTo>
                    <a:pt x="443" y="0"/>
                  </a:lnTo>
                  <a:lnTo>
                    <a:pt x="561" y="664"/>
                  </a:lnTo>
                  <a:lnTo>
                    <a:pt x="697" y="114"/>
                  </a:lnTo>
                  <a:lnTo>
                    <a:pt x="742" y="294"/>
                  </a:lnTo>
                  <a:lnTo>
                    <a:pt x="981" y="294"/>
                  </a:lnTo>
                </a:path>
              </a:pathLst>
            </a:custGeom>
            <a:noFill/>
            <a:ln cap="rnd" w="255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33560" y="6172200"/>
              <a:ext cx="6780240" cy="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992160" y="5573880"/>
            <a:ext cx="8263080" cy="1055520"/>
            <a:chOff x="992160" y="5573880"/>
            <a:chExt cx="8263080" cy="1055520"/>
          </a:xfrm>
        </p:grpSpPr>
        <p:sp>
          <p:nvSpPr>
            <p:cNvPr id="7" name=""/>
            <p:cNvSpPr/>
            <p:nvPr/>
          </p:nvSpPr>
          <p:spPr>
            <a:xfrm>
              <a:off x="7696080" y="5573880"/>
              <a:ext cx="1559160" cy="1055520"/>
            </a:xfrm>
            <a:custGeom>
              <a:avLst/>
              <a:gdLst/>
              <a:ahLst/>
              <a:rect l="l" t="t" r="r" b="b"/>
              <a:pathLst>
                <a:path w="982" h="665">
                  <a:moveTo>
                    <a:pt x="0" y="332"/>
                  </a:moveTo>
                  <a:lnTo>
                    <a:pt x="187" y="332"/>
                  </a:lnTo>
                  <a:lnTo>
                    <a:pt x="244" y="140"/>
                  </a:lnTo>
                  <a:lnTo>
                    <a:pt x="324" y="461"/>
                  </a:lnTo>
                  <a:lnTo>
                    <a:pt x="443" y="0"/>
                  </a:lnTo>
                  <a:lnTo>
                    <a:pt x="561" y="664"/>
                  </a:lnTo>
                  <a:lnTo>
                    <a:pt x="697" y="114"/>
                  </a:lnTo>
                  <a:lnTo>
                    <a:pt x="742" y="294"/>
                  </a:lnTo>
                  <a:lnTo>
                    <a:pt x="981" y="294"/>
                  </a:lnTo>
                </a:path>
              </a:pathLst>
            </a:custGeom>
            <a:noFill/>
            <a:ln cap="rnd" w="255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92160" y="6095880"/>
              <a:ext cx="678024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n The Days of the Judges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3, Lesson 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ges 19-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gs. 119-12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The Sin of the Men of Benjamin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y Happens Early in Period of Jud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nehas is High Priest – Judges 20:28 compared to Josh.22:30 and Num.25:11-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evite and His Concubine – 19:1-3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Left Him and Went Back To Father’s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te and His Father-in-law – 2-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urney to Gibeah – 10-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600880" y="0"/>
            <a:ext cx="4686120" cy="6981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The Sin of the Men of Benjamin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600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evite and His Concubine – 19:1-3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ld Man’s Hospitality 16-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jamites Seek Evil – 22-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cubine is Raped &amp; Abused – 25-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te Seeks Drastic Way To Get Israel’s Attention and Moral Outrage – 27-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400800"/>
            <a:ext cx="10287000" cy="685800"/>
          </a:xfrm>
          <a:prstGeom prst="rect">
            <a:avLst/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27800" y="1371600"/>
            <a:ext cx="385920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The Sin of the Men of Benjamin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Israel Responds to the Crime – 20:1-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rael Marshals Forces – 1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te Recounts Incident – 4-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 to Punish Gibeah – 8-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ations for Battle – 12-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jamites Win First – 19-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rael Again Defeated – 24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rael Finally Victorious – 26-3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ails of the Victory – 36-4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storation of the Tribe of Benjamin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82880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 for the Extinction of Benjamin – 21:1-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gins From Jabesh-Gilead – 8-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Women – 13-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to Evade Vow – 16-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 of Judges Summarized – 21:2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30T21:48:16Z</dcterms:created>
  <dc:creator>Jerry Feil</dc:creator>
  <dc:description/>
  <dc:language>en-US</dc:language>
  <cp:lastModifiedBy>Frank D Vines</cp:lastModifiedBy>
  <cp:lastPrinted>31146-05-27T03:19:16Z</cp:lastPrinted>
  <dcterms:modified xsi:type="dcterms:W3CDTF">2005-03-20T14:28:55Z</dcterms:modified>
  <cp:revision>4</cp:revision>
  <dc:subject/>
  <dc:title>No Slide Title</dc:title>
</cp:coreProperties>
</file>